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C015-C50D-4D12-AF6F-985601363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tional Icebreake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3B9C-167D-4893-9319-9D03F85F2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tional Learning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6D18-966F-4290-A4EE-AEAFBA2E2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31E69-5165-4514-A0C4-0224C805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E6A43-8161-4C13-BA2A-EF36D111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7DB20-DDD6-43CD-A77E-6D32DE02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B4E6A-0491-4E5F-97C1-4161E5A1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5A84C-B5D4-4893-9ED6-029DEC5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AFDD8-5932-407E-9552-A5784E8F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0F3C9-423F-4FAC-924C-2A3E6009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EA083-40DA-4475-B5E0-9206A41A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EA153-5E76-40C3-8209-E2740A29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583A3-E119-4629-BE9A-C2CFBD6D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5EFAD-F67E-4B9C-B12C-7BAF9E89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404E0-2779-4B8B-90AA-22E3C139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D7D9F-6A3F-45EA-B36B-41039475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17FE8-E576-43DB-928A-A4743958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8A959-1900-4A56-AFA8-689684B3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6AA12-4678-4AD8-A106-AF1A1F4D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44971-0F83-4507-A9FA-55D62827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6DA97-1501-437D-A8D9-5DB57BA1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76A34-3141-46A7-AE80-CCB0FFDC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8D191-706A-4792-B085-FDEDA339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6D511-A1BC-4771-A398-15FFED24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268-6A46-4011-9DF4-53AB9018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E3F-D316-46DF-808D-B7EB1169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463-5B0E-46F9-8F4C-27464D3C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8CE-6A2E-4E96-8F9A-BD94618F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5FB-6F6A-4314-AA4C-1EE9A74E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199-BFB3-4694-8BC1-52290BB1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D8B-B43F-4D8E-B14C-AE33E243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7F3-C0DA-4A17-B3CE-01AB169B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C09-AAEF-4569-94CC-4142BA2D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209-5A85-4246-9D75-5F5731E5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837-AAE8-4699-B78F-2E361774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26E-B39B-4AA6-83C9-56764C92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04AD-53F0-45C1-9812-6B74D00E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5019-0A36-47C3-A47A-D139A511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F11F-5B62-49E0-A3CF-848BB8EC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2C28-755E-4FC8-B77F-830628B5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DE8A-BC28-4977-9F09-BF6ED433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272A-D6DC-4BD3-93C7-E670F6FD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79DC-F5EF-413E-AFE9-835659A8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D85F-B6C9-4C2F-88AE-88026448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39ED-6E64-431D-8C66-CE4B9601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40B3-1043-4506-ACFA-756E220A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2A16-CAB5-4C1B-9952-F19F9F50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0C13-6903-41D2-904F-D9C28AE5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E87C-C05A-49F7-B1BF-65FBA77E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4E94-E0C2-4C2F-A999-B5F8EC2B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2B75-AD96-47D5-926F-686E6251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A9B99-52DE-4D10-865D-F76AC4E7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744C-DDB0-4661-B9DA-E200AB3A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3600-AA8E-446A-9F42-2F7D119F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8AED-5556-462F-8B2F-2E56CE2E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2E66-E8E1-4A8E-A166-2DB4FC4C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FD67-3239-466D-A2A7-666CC3C9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0D93-6FB7-4048-8116-3AE7C022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227F-1F0B-4AE3-B6BE-DF4C4B72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20C0-DE92-42F3-A039-699CE355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B5E7-7A60-42CB-85AF-DE40000F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5619-A9D2-4489-BAC1-AF25B9CF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59E6-572F-472C-BAAF-D24EBEA1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7E4C-AB2F-4957-BDE7-8CF30666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B74C-F771-4B9A-BEE5-CA153435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805B-9893-4462-965F-A2164B5D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D596E-6439-4298-8863-809525AB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37D8-C57C-481E-B950-8F980259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D9C58-7C26-4276-A0CE-CFE554FB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1A69-6ED8-458B-9EA3-564E3351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4E81C-2FBA-42B0-A040-F098F48F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4C025-8ED2-4C93-BBA0-B2482C77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13DA1-86A3-41B9-9619-349BA6E2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22F54-2E32-4B45-A7CD-F3FFE7B0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E79B5-273F-41F9-B182-B751233C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DFDDE-8ACF-4D02-AA8F-3054E028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359ED-3C05-4202-8A73-7D4878E6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B53E4-AC6C-4C56-92E2-F9CA9EC7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E98A4-114B-4487-97D3-71B4D5E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C0A8C-8EC5-4808-9871-ED3FAFD5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E5F60-DD57-49E2-B91F-38FEA08F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0327F-F942-4B9F-B658-9D4E9B39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4B1CF-ED17-4605-8C72-04C03D15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A20CF-27E9-4EE2-BB4C-6CFF186D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2CAB3-5FFB-4234-896C-A8BF49D6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0701C-5111-4A57-8051-9760749B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DCA84-9AF3-45DA-91E9-76B19BF9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A9099-B806-45BB-AC7E-210FF48B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95888-2FCC-47AD-8134-CCFFE8DE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31579-DFA6-46E8-AAC3-0E133AC9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B958B-502F-4295-B83B-DD6303A0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04BC9-DD2B-4400-A001-42107CC1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53AB2-5B9B-4D7D-BB1B-FA6A9308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1023A-D574-4F82-8BA2-097C39C5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52A47-63F5-4567-88D1-35F29B96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E4265-9A96-43F3-8B51-D0322FA2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1A0E5-6537-4511-8167-D44CDA05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66E0F-898F-482E-B4B4-8D2ACAB5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DD981-E9BE-49B5-84D5-88AD1251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524FB-477C-4235-B7C8-8C0C615C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BA268-9CC7-4B86-A340-6B45FF28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FC050-9EC8-42BC-A426-B669A919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4BD06-BB73-45A1-93CC-A9D328D3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C2479-F38E-4E52-A270-2D3A1F43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DA2F1-A077-4B66-8587-D579FDA5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75053-C315-4B72-9F33-ABB0C2AC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A8E9A-92BD-4CD5-BA7D-DB6ACDC9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9A01A-9CF7-4EAB-9249-0A2D1566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BD73A-1D55-4620-8A43-6BCFB041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2CAEF-4435-4F45-A3C2-4FA9052D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5F553-FE92-4537-87C1-E97C0F31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0" y="0"/>
            <a:ext cx="949320" cy="6858000"/>
          </a:xfrm>
          <a:prstGeom prst="rect">
            <a:avLst/>
          </a:prstGeom>
          <a:solidFill>
            <a:srgbClr val="186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B112-0592-4149-91BE-BF2B5D1D25B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0"/>
          <p:cNvSpPr/>
          <p:nvPr/>
        </p:nvSpPr>
        <p:spPr>
          <a:xfrm>
            <a:off x="1198440" y="0"/>
            <a:ext cx="10993680" cy="960480"/>
          </a:xfrm>
          <a:prstGeom prst="rect">
            <a:avLst/>
          </a:prstGeom>
          <a:solidFill>
            <a:srgbClr val="15a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2" descr=""/>
          <p:cNvPicPr/>
          <p:nvPr/>
        </p:nvPicPr>
        <p:blipFill>
          <a:blip r:embed="rId2"/>
          <a:stretch/>
        </p:blipFill>
        <p:spPr>
          <a:xfrm>
            <a:off x="0" y="6531120"/>
            <a:ext cx="3286080" cy="3268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43"/>
          <p:cNvSpPr/>
          <p:nvPr/>
        </p:nvSpPr>
        <p:spPr>
          <a:xfrm>
            <a:off x="1084320" y="6531120"/>
            <a:ext cx="11107800" cy="326880"/>
          </a:xfrm>
          <a:prstGeom prst="rect">
            <a:avLst/>
          </a:prstGeom>
          <a:solidFill>
            <a:srgbClr val="47c0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0" y="0"/>
            <a:ext cx="1203480" cy="960480"/>
          </a:xfrm>
          <a:prstGeom prst="rect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"/>
          <p:cNvPicPr/>
          <p:nvPr/>
        </p:nvPicPr>
        <p:blipFill>
          <a:blip r:embed="rId3"/>
          <a:stretch/>
        </p:blipFill>
        <p:spPr>
          <a:xfrm>
            <a:off x="174600" y="104760"/>
            <a:ext cx="889200" cy="750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"/>
          <p:cNvPicPr/>
          <p:nvPr/>
        </p:nvPicPr>
        <p:blipFill>
          <a:blip r:embed="rId2"/>
          <a:stretch/>
        </p:blipFill>
        <p:spPr>
          <a:xfrm>
            <a:off x="10925280" y="0"/>
            <a:ext cx="1266840" cy="993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8" descr=""/>
          <p:cNvPicPr/>
          <p:nvPr/>
        </p:nvPicPr>
        <p:blipFill>
          <a:blip r:embed="rId3">
            <a:alphaModFix amt="61000"/>
          </a:blip>
          <a:stretch/>
        </p:blipFill>
        <p:spPr>
          <a:xfrm>
            <a:off x="0" y="632304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60B8-620C-4607-AE62-D69DEF6698A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F6D7-037D-4EE6-A022-95E8F2C6096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BF7B-34EF-49C5-9338-3B8A7743C60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3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3914-2630-4819-BDFF-62BCBEBE23D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8B68-D04C-454A-834D-79CC84FB753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E886-5673-4D90-B728-FBEC246965D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569D-9A66-4E97-B139-465F67DBF4E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C4D6-A756-4E9D-A456-DFEE056AD2C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Oval 1"/>
          <p:cNvSpPr/>
          <p:nvPr/>
        </p:nvSpPr>
        <p:spPr>
          <a:xfrm>
            <a:off x="8529480" y="3170160"/>
            <a:ext cx="3662640" cy="3687840"/>
          </a:xfrm>
          <a:prstGeom prst="ellipse">
            <a:avLst/>
          </a:prstGeom>
          <a:solidFill>
            <a:srgbClr val="e7e6e6">
              <a:alpha val="62000"/>
            </a:srgbClr>
          </a:solidFill>
          <a:ln w="1260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’s throw clay on the pottery whe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ctivity: Putting It Into Practic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49240" y="2327400"/>
            <a:ext cx="518184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 to use your program’s curriculum to support each child’s development and learn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3" descr="A young girl standing in a room&#10;&#10;Description automatically generated"/>
          <p:cNvPicPr/>
          <p:nvPr/>
        </p:nvPicPr>
        <p:blipFill>
          <a:blip r:embed="rId1"/>
          <a:stretch/>
        </p:blipFill>
        <p:spPr>
          <a:xfrm>
            <a:off x="7077240" y="2327400"/>
            <a:ext cx="411480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3T18:58:56Z</dcterms:created>
  <dc:creator>Microsoft Office User</dc:creator>
  <dc:description/>
  <dc:language>en-US</dc:language>
  <cp:lastModifiedBy>Treshawn Anderson</cp:lastModifiedBy>
  <dcterms:modified xsi:type="dcterms:W3CDTF">2020-04-20T20:22:09Z</dcterms:modified>
  <cp:revision>78</cp:revision>
  <dc:subject/>
  <dc:title>Implementing a Curriculum Responsive to Children’s Strengths and N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ge Range">
    <vt:lpwstr/>
  </property>
  <property fmtid="{D5CDD505-2E9C-101B-9397-08002B2CF9AE}" pid="3" name="Approvers">
    <vt:lpwstr/>
  </property>
  <property fmtid="{D5CDD505-2E9C-101B-9397-08002B2CF9AE}" pid="4" name="Audience">
    <vt:lpwstr/>
  </property>
  <property fmtid="{D5CDD505-2E9C-101B-9397-08002B2CF9AE}" pid="5" name="Audiences">
    <vt:lpwstr/>
  </property>
  <property fmtid="{D5CDD505-2E9C-101B-9397-08002B2CF9AE}" pid="6" name="ComplianceAssetId">
    <vt:lpwstr/>
  </property>
  <property fmtid="{D5CDD505-2E9C-101B-9397-08002B2CF9AE}" pid="7" name="ContentTypeId">
    <vt:lpwstr>0x0101001B4C0ACEA8DAF04D970A1715B66301EA</vt:lpwstr>
  </property>
  <property fmtid="{D5CDD505-2E9C-101B-9397-08002B2CF9AE}" pid="8" name="DocumentStatus">
    <vt:lpwstr>Manager Review</vt:lpwstr>
  </property>
  <property fmtid="{D5CDD505-2E9C-101B-9397-08002B2CF9AE}" pid="9" name="National Conference">
    <vt:lpwstr/>
  </property>
  <property fmtid="{D5CDD505-2E9C-101B-9397-08002B2CF9AE}" pid="10" name="Order">
    <vt:r8>667600</vt:r8>
  </property>
  <property fmtid="{D5CDD505-2E9C-101B-9397-08002B2CF9AE}" pid="11" name="Region">
    <vt:lpwstr/>
  </property>
  <property fmtid="{D5CDD505-2E9C-101B-9397-08002B2CF9AE}" pid="12" name="SharedWithUsers">
    <vt:lpwstr/>
  </property>
  <property fmtid="{D5CDD505-2E9C-101B-9397-08002B2CF9AE}" pid="13" name="TaxCatchAll">
    <vt:lpwstr/>
  </property>
  <property fmtid="{D5CDD505-2E9C-101B-9397-08002B2CF9AE}" pid="14" name="TemplateUrl">
    <vt:lpwstr/>
  </property>
  <property fmtid="{D5CDD505-2E9C-101B-9397-08002B2CF9AE}" pid="15" name="TopicArea">
    <vt:lpwstr/>
  </property>
  <property fmtid="{D5CDD505-2E9C-101B-9397-08002B2CF9AE}" pid="16" name="Topic_Area">
    <vt:lpwstr/>
  </property>
  <property fmtid="{D5CDD505-2E9C-101B-9397-08002B2CF9AE}" pid="17" name="Webinar">
    <vt:lpwstr/>
  </property>
  <property fmtid="{D5CDD505-2E9C-101B-9397-08002B2CF9AE}" pid="18" name="Year Vetted">
    <vt:lpwstr/>
  </property>
  <property fmtid="{D5CDD505-2E9C-101B-9397-08002B2CF9AE}" pid="19" name="b172363ec58b499dad30d2b09a8896e0">
    <vt:lpwstr/>
  </property>
  <property fmtid="{D5CDD505-2E9C-101B-9397-08002B2CF9AE}" pid="20" name="ec3caad0312d4c2bb9f97715ae0cf85a">
    <vt:lpwstr/>
  </property>
  <property fmtid="{D5CDD505-2E9C-101B-9397-08002B2CF9AE}" pid="21" name="fcbb0cf91974408394499761fa7977d2">
    <vt:lpwstr/>
  </property>
  <property fmtid="{D5CDD505-2E9C-101B-9397-08002B2CF9AE}" pid="22" name="g5cbabc475af428e8a4b767b325afa7b">
    <vt:lpwstr/>
  </property>
  <property fmtid="{D5CDD505-2E9C-101B-9397-08002B2CF9AE}" pid="23" name="k112b48b8b0842abbe71d39765b03e81">
    <vt:lpwstr/>
  </property>
  <property fmtid="{D5CDD505-2E9C-101B-9397-08002B2CF9AE}" pid="24" name="lc402643ecbf4499b639d533dae17ca9">
    <vt:lpwstr/>
  </property>
  <property fmtid="{D5CDD505-2E9C-101B-9397-08002B2CF9AE}" pid="25" name="m467fd03801e42aeb7355f8ac300c17b">
    <vt:lpwstr/>
  </property>
  <property fmtid="{D5CDD505-2E9C-101B-9397-08002B2CF9AE}" pid="26" name="o04817ec836b43088d222d88b97d0ffb">
    <vt:lpwstr/>
  </property>
  <property fmtid="{D5CDD505-2E9C-101B-9397-08002B2CF9AE}" pid="27" name="p22cc5a201e14acc82f079247ea5c295">
    <vt:lpwstr/>
  </property>
  <property fmtid="{D5CDD505-2E9C-101B-9397-08002B2CF9AE}" pid="28" name="xd_ProgID">
    <vt:lpwstr/>
  </property>
  <property fmtid="{D5CDD505-2E9C-101B-9397-08002B2CF9AE}" pid="29" name="xd_Signature">
    <vt:bool>0</vt:bool>
  </property>
</Properties>
</file>