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8C94-EF30-46C4-8417-B5704D3D8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A430-C4B7-4612-A285-9E41478AB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5EC-FB8D-46FB-90C9-FBB04C47F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3D50-4C4B-4A08-9CF2-3DBC3DD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3BBF0-38E7-4670-A4D3-13E09FF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8E85-9307-4C33-8DE0-C3BE0FEC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68499-BFDA-4513-B6C8-C928365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B415-7052-4467-9545-5A264AE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D596-5402-43D5-B735-3F34F5D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6E823-4E72-42ED-9317-DD168603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FB36-153F-4FEA-B9E9-2F1A4504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4062-5C47-4FF3-85B9-9DF632DE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BA654-CAD3-4296-9744-5824C664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E2457-E73C-4D3B-B472-775F0A16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06AB-5E69-4A29-87EB-C4FD417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ED4C-4D63-4223-A6A3-6643EB56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94722-DF92-4B6A-9BA2-27DA274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8C84-42D6-487C-B6E5-927F211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FBFD7-0962-4038-9230-D6DC4A0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FFDE8-EF41-411A-94C3-8B34A2A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AE791-7B45-4581-8EA6-213F70D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27EC8-8344-40AA-8560-274E7C2D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5FD8E-C29E-4CF2-BA39-1E6207D0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8764-0A64-4889-85C1-82884781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D9F-D148-4C90-AE4D-8964AF8B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7BD-4811-496B-9C82-797A8CB0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D3B-BE25-4014-9FC5-7AD3A73D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4E3-08C7-4BA5-8781-EE1A42B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546-8C29-4735-977C-A4AD1DC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1B7-A056-475C-906D-040E460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478-485C-4DC9-A0BA-AAE2626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B0F-92B1-4B9D-9840-1985CF7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5C4-B0A9-46E7-A975-FFB07C8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6F0-51E9-4698-9889-09409A7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441-053F-49F4-B548-17923D41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339-81AF-4DC2-BB45-6E6356C7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63FA-0E08-4537-8DFB-758DD18B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A68-869F-49E9-BE71-40C840B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EE7-4D40-40B0-9BD9-4C21B90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DA27-EC3A-448B-9964-8B92119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C8F6-4280-408F-A08F-9A791F2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CC1-4671-4387-ABB2-5DB3D00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F3A-04C0-40C7-AE6A-F284CFA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152F-BAF0-4C8C-B470-42386ECE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90E-03C6-48B6-819B-D9163A62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A95-8E47-4EC6-B094-634B0E2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F85-CCDB-419F-B7DD-7790373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A03C-356A-4F4C-B182-B9142808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2275-EBDD-4775-82BB-E04B9A3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A03E-F8A8-44B9-A534-2454517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0A90-7B35-4A41-B00B-13AC4789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0BA5-42D2-4C03-9651-685ACF4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432A-9DBB-4C5A-9CBD-9D7640B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29C4-F504-49F7-ADAB-EB34AA0D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76B0-8940-4188-8876-6D76C5B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4583-F512-4151-A394-BE3D49E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3647-1372-4FE1-A1D0-E0266D6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54DF-56CC-4C48-A96F-7EE41C9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5C6C-8D3C-4CD9-9AB8-A948BBF7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ECDB-9F05-42F2-8DD7-49FAE114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E5A5-0DDE-486E-85CB-036C8A86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BF2C-612B-4B67-924A-A7DC353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FC38-E82E-4092-8FF5-D2CAF8CF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FCB2-E6DB-4EDF-8DFD-5153753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8B69-44EE-4000-9019-9F97408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7B2D-4AB3-4CCC-8B7D-63904B9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A355-C036-40C2-8D33-6567699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94C1-09EA-41FA-8EB1-E411ABAE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57E1-F1C3-4A07-A60A-781949A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026A-0FE6-4780-8EBC-7B81F42E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BA23-F5AA-4BC0-A39F-84E7C116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59AA-AAE7-4DC6-8671-5D38CE3F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9962-3D79-4C2E-8889-FF28E5FC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F32F-722F-4174-80AF-8A28DDA9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7C9B-BD47-48C8-9F4C-7A770E6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C17B-5C57-44D6-BF33-ED015575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6FC5-6926-4ACA-8E3B-A7D09C4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A06F-E6CB-43B1-983C-1352072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577F-9E7E-45C2-BAAF-F63C4312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41F0-126B-49EB-870E-D2FB59E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0C25-5FEA-4F12-8D89-AAC044C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BB83C-8E4D-422D-9465-0B759F4F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365C-22D1-46BB-97C2-95AF983B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22E1-2C47-475D-99E2-5EA5F10B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2BC73-E6B0-4007-A2DB-4A52E0BB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1668-AB04-4324-9BE3-66792B4C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FA60-E202-41B4-B8D5-F25C361D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0584-67E9-4CE6-95B9-19E5C585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AD60-A967-4CBF-A9EA-00113E8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5989-CF31-475B-B017-87E9B8F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73B1-EEE5-4EAF-B954-A0BD283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B3CB5-0D61-4FA6-9810-B60C4E7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9A89-833D-43F9-BDED-16EEA9E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145DD-DE07-4CB7-8D92-01264F0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0960D-036B-4956-A9FF-FE0C3259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EF6A-0B60-4A54-8949-4AD174E0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99A5-6282-4696-B589-1FBE010E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47A5-1752-4351-BA68-97AE635C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7719-4391-436B-812E-62C2B4C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A53F-A368-4FA3-887B-369AA26C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CFE4-1810-4465-8F20-BC8701AB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162A3-8136-4CA8-B44D-DC648D3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72201-15AA-4C49-AA39-0E7FE87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D852-EA06-43D9-9CCB-63DCB24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ED5C9-6C6A-4953-A6C2-E20EBF8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3AED-4242-4C9F-A3E0-C3711C8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9EA3-FC5F-4426-B370-545CDE62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2A02-AD86-460C-BFB7-C95D2254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2B0EE-341F-4358-9664-0373B22D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E4739-E26A-496F-A444-438B2B8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1CEAA-0273-4210-80C7-02B6E9E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22C-9ECF-4619-9F64-3314F2C387E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5F2-1419-422E-BB70-03CBE541AF7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645-BD39-4B8B-824C-42FD2BB05DA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7BB6-CCD6-49C9-B7DE-6CA3A1A4F81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0EE-FF1E-407F-80AD-90687DACFA9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9A8-28D3-4059-BB93-E381719FA50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F03-017D-4770-AF17-9D6319BC2AF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A5CA-0D47-4C9D-971F-0B838DD1CB7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FB4-0440-4113-A943-776547384D4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20680" y="2390760"/>
            <a:ext cx="5181840" cy="27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how you can use your home-based curriculum to help a family support their child’s development and lear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Content Placeholder 5" descr="A person sitting at a table&#10;&#10;Description automatically generated"/>
          <p:cNvPicPr/>
          <p:nvPr/>
        </p:nvPicPr>
        <p:blipFill>
          <a:blip r:embed="rId1"/>
          <a:stretch/>
        </p:blipFill>
        <p:spPr>
          <a:xfrm>
            <a:off x="6823080" y="1943280"/>
            <a:ext cx="4816440" cy="34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Allyson Dean</cp:lastModifiedBy>
  <dcterms:modified xsi:type="dcterms:W3CDTF">2020-02-16T20:06:39Z</dcterms:modified>
  <cp:revision>66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701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